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0A8-5B14-498F-BB83-ACDE5961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7BC-A888-47C9-8D93-EF8901FC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F61-B58A-4DDE-B6FE-5B3C74CF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6E5-7F78-4006-BAB5-223A90B7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F6C1-6930-4A8A-8000-BAE2AA8E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FBC-2DC5-4972-95EB-EFC47E1F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033-54BD-4C19-83C4-680C7312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3ED-F50E-401B-9450-8C0F3EC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83F-AE8E-4775-9A55-AD3CDCF1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D7D6-4BD6-4F9B-AEC1-DA735A87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E241-E669-4915-9B8F-AD37370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D10-0A9B-4FFA-BC1A-7A0ADE33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1C9-E1E5-4B26-AE31-8A40DFB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0F3F-3270-40D4-B921-7BB9C770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0571-48A4-43D0-B35F-19629761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B838-5906-4628-9317-939C1572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D1F-6F5F-4736-9ECE-7C0C5F71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84A-363A-418D-BFB7-433A9CF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9EA-9C47-4397-ACBC-3E4D33EE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564-2F41-4BA7-92EB-15C5914E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E96-7AD5-45B7-853C-F9CC94F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474-D022-4598-A654-EA06D4E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1D4-BCAC-462D-9530-8E23221A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C2E-1D79-4753-8E32-C8CBA3B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263-08F1-43D8-9100-B913384A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CE20-D7C3-4F84-851B-3A7A47D5F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unc</a:t>
            </a: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ţ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a de gradul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65080" y="4400640"/>
            <a:ext cx="5684760" cy="574560"/>
          </a:xfrm>
          <a:prstGeom prst="rect">
            <a:avLst/>
          </a:prstGeom>
          <a:solidFill>
            <a:srgbClr val="e2a2dd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omic Sans MS"/>
              </a:rPr>
              <a:t>Grafic,ecuaţii,inecuaţ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Activitatea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4040" y="1952640"/>
            <a:ext cx="6699240" cy="2665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Prezint PPS-ul de prezent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Test iniţial-format fişă de luc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împărţirea elevilor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Ofer elevilor broşura de proi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Activitatea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Definirea funcţieie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rasarea graficului funcţiei de gradul I prin punctele de intersecţie cu axele de coordon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Interpretarea geometrică a soluţiei ecuaţiei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Temă de cas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87096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Graficul funcţiei de gradul I pe ramuri-exerciţii,fişe de lucr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Evaluare formativ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cc"/>
                </a:solidFill>
                <a:latin typeface="Times New Roman"/>
              </a:rPr>
              <a:t>Monotonia funcţiei de gradul I-grafic şi cu ajutorul raportulu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38080" y="0"/>
            <a:ext cx="70995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ACTIVITATEA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8706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omic Sans MS"/>
              </a:rPr>
              <a:t>Activitatea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Semnul funcţieie de gradul I,grafic şi algebr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Rezolvarea inecuaţiei de gradul I cu ajutorul semnului funcţie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plicaţii în rezolvarea ecuaţiilor şi inecuaţiilor de gradul 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3008160" cy="5968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ATEA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Substituent conținut 6" descr="000_0173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743200" cy="3810240"/>
          </a:xfrm>
          <a:prstGeom prst="rect">
            <a:avLst/>
          </a:prstGeom>
          <a:solidFill>
            <a:srgbClr val="7f0000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st format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ezolvarea sistemelor e ecuaţii de gradul I grafi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Conector drept 8"/>
          <p:cNvSpPr/>
          <p:nvPr/>
        </p:nvSpPr>
        <p:spPr>
          <a:xfrm>
            <a:off x="1371600" y="4343400"/>
            <a:ext cx="914400" cy="91440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Conector drept 15"/>
          <p:cNvSpPr/>
          <p:nvPr/>
        </p:nvSpPr>
        <p:spPr>
          <a:xfrm flipV="1">
            <a:off x="1600200" y="4495680"/>
            <a:ext cx="1143000" cy="60984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Conector drept cu săgeată 25"/>
          <p:cNvCxnSpPr/>
          <p:nvPr/>
        </p:nvCxnSpPr>
        <p:spPr>
          <a:xfrm flipV="1">
            <a:off x="1749960" y="3201120"/>
            <a:ext cx="3960" cy="2134440"/>
          </a:xfrm>
          <a:prstGeom prst="straightConnector1">
            <a:avLst/>
          </a:prstGeom>
          <a:ln w="9360">
            <a:solidFill>
              <a:srgbClr val="fded60"/>
            </a:solidFill>
            <a:miter/>
            <a:tailEnd len="med" type="arrow" w="med"/>
          </a:ln>
        </p:spPr>
      </p:cxnSp>
      <p:cxnSp>
        <p:nvCxnSpPr>
          <p:cNvPr id="168" name="Conector drept cu săgeată 28"/>
          <p:cNvCxnSpPr/>
          <p:nvPr/>
        </p:nvCxnSpPr>
        <p:spPr>
          <a:xfrm>
            <a:off x="1294920" y="4723920"/>
            <a:ext cx="1753560" cy="2520"/>
          </a:xfrm>
          <a:prstGeom prst="straightConnector1">
            <a:avLst/>
          </a:prstGeom>
          <a:ln w="9360">
            <a:solidFill>
              <a:srgbClr val="fded60"/>
            </a:solidFill>
            <a:miter/>
            <a:tailEnd len="med" type="arrow" w="med"/>
          </a:ln>
        </p:spPr>
      </p:cxn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CTIVITATEA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Substituent imagine 4" descr="Picture 162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solidFill>
            <a:srgbClr val="ffe60d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olvara sistemelor de inecuaţii de gradul I graf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ţ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ws23</dc:creator>
  <dc:description/>
  <dc:language>en-US</dc:language>
  <cp:lastModifiedBy>vio</cp:lastModifiedBy>
  <dcterms:modified xsi:type="dcterms:W3CDTF">2010-01-21T07:36:56Z</dcterms:modified>
  <cp:revision>10</cp:revision>
  <dc:subject/>
  <dc:title>Funcţia de gradul I</dc:title>
</cp:coreProperties>
</file>